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948-E4E2-4854-BE6F-3E6F6A8F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AA3-7904-4842-A08C-F6265C56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89E-568C-4A69-8F93-314A0E2C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1F9-15A4-4964-8EB5-4F0AACE5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79D1-C336-470C-9098-BE54EA25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DC44-2FD4-4CD4-872C-90AB88CF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A992-37B5-46B9-9E0A-99B08BD3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F51-7299-426D-ACB8-E4242E06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38FB-E0B7-4946-BC6A-DC76F9EC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9374-4F5E-422B-B94F-272E6268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9617-3A97-4D5E-978D-B0B4991F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BAA-3A95-4EFC-B662-02BAB7EC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1F40-EB35-4C02-8196-410A0553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12E8-3D17-41F0-BE35-2451077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3D53-A13B-44E6-85CF-1E454892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82CE-1AAE-45E4-A706-152E56DE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1C0D-13E7-4C32-BF16-B892A638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359-3732-457B-8074-EA24A649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145-720D-41A3-AAB6-484B932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A62-A8BE-4005-A385-8D2B00CF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CED-B0E8-477C-9B19-14504171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E52-4E23-49CD-BA7A-B3852BAE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D4B-B223-4B1B-9B9A-8A2C2CFE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28E-C7CC-461F-A20F-C2935ED8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B37C-9595-447B-8C35-B7753CC24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3D52-C9E9-422C-BF0A-C9A26B4F4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920" y="5641920"/>
            <a:ext cx="6964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e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16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onacci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yptogra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ic and M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erature and M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pinski’s Tri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u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in Mathe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eld Medal Win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916280"/>
            <a:ext cx="4316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os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me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or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ous Mathematic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tory in Mathe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number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ous Proble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ember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Topics sele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ctober 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narrow foc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ctober 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Presentation id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– Final product d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es for presentation will be assigned on December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et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ten report of research findings (minimum 2 pag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bliography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ternet sites visited must be recor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multiple choice question and one short answer question from your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 of your presentation – this will be due the day after your presen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king Rubr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adlines – 1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ten report – 2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bliography – 1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entation – 35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mary – 1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 – 1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w factor – 5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esentation Da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1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22:30:56Z</dcterms:created>
  <dc:creator>nbdoe</dc:creator>
  <dc:description/>
  <cp:keywords/>
  <dc:language>en-US</dc:language>
  <cp:lastModifiedBy>nbdoe</cp:lastModifiedBy>
  <dcterms:modified xsi:type="dcterms:W3CDTF">2007-09-22T22:54:20Z</dcterms:modified>
  <cp:revision>6</cp:revision>
  <dc:subject/>
  <dc:title>Independent Stu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11033</vt:lpwstr>
  </property>
</Properties>
</file>